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66600" y="777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Building 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3759120" y="77760"/>
            <a:ext cx="3038400" cy="650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Engineering and Architecture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 – Lesson 4.2 – Commercial Building Design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77760" y="85852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A960D9-626B-43FC-92C8-EBDCCD8E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970216-34DE-4E77-AF37-E9986F7B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13B93A-2F40-4EB5-A563-174CBFCA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5D6942-FE22-458E-AB65-FC24CEDB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A70CA6-A394-4E25-934F-22866809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B7D91C-F373-4B03-B9FF-44C8711CE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7DE4EB-8138-4621-B736-18396CD7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mage http://www.istockphoto.com/stock-photo-3725359-blueprint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E1AD38-A162-4161-B6DD-6B986BB4D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0E2F0E-38AE-4739-86D2-81A5FE40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F92414-8C4C-48E7-835D-BE3267E4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7DF355-7058-4225-8196-1546E064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549-E2DD-4B5F-B539-12A8AEC5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08C-56E8-4A5C-9882-C73B1AB1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AE6-9CD2-4197-B877-57217FE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E65-7A0B-44D8-8910-565CBC9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1BB-6FE6-4E2B-9958-0A87195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820-CE61-493D-A8F9-F88023F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88B-86BC-4BCA-BF16-2E446A2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565-70A1-48E8-97B1-951E2C5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974-38D3-47BF-B32B-A8A136C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4DF-EFCE-4DC7-918C-6C5DE36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FB1-C5E4-4A05-83CA-0116C42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3C2-6AA8-44B5-B670-1542D95C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8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566-CF3F-483B-8C1E-00492C44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clipart/default.aspx" TargetMode="External"/><Relationship Id="rId2" Type="http://schemas.openxmlformats.org/officeDocument/2006/relationships/hyperlink" Target="http://office.microsoft.com/en-us/clipart/default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39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Commercial Building </a:t>
            </a:r>
            <a:br>
              <a:rPr sz="4400"/>
            </a:b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Project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PLTW_MT_L_3Crgb.jpg"/>
          <p:cNvPicPr/>
          <p:nvPr/>
        </p:nvPicPr>
        <p:blipFill>
          <a:blip r:embed="rId1"/>
          <a:stretch/>
        </p:blipFill>
        <p:spPr>
          <a:xfrm>
            <a:off x="1447920" y="212760"/>
            <a:ext cx="62467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, Inc. (n.d.)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p a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rieved September 30, 2009,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ice.microsoft.com/en-us/clipart/default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us Architects. Stuart Engals II Project Drawings. Mount Pleasant,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-797" r="-3810" b="0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Project Portfolio 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86200" y="1523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i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Drawing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Architectural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67652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definition of the required functions of the project and includes design criteria and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16560" y="1047600"/>
            <a:ext cx="64436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Design Draw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557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876920" y="1676520"/>
            <a:ext cx="39495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the                   location of all of the design features in a design project; created by hand or on compu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drawings, sections, elevations, schedules, 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471600" y="330120"/>
            <a:ext cx="3389040" cy="319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451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Sections and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430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of drawing depicting an object as if it had been cut through to show the interio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largement of a specific area of a structure that is drawn where several components intersect or where small members a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495680" y="1709640"/>
            <a:ext cx="3962520" cy="16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rcRect l="2112" t="0" r="0" b="0"/>
          <a:stretch/>
        </p:blipFill>
        <p:spPr>
          <a:xfrm>
            <a:off x="4876920" y="3611520"/>
            <a:ext cx="35337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Ele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drawings that shows the exterior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thographic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one 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shapes and fi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relationships of the build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204920" y="3259080"/>
            <a:ext cx="58053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3191040" y="3809880"/>
            <a:ext cx="5952960" cy="2571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Rende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2666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s Use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, ink, water colors, marker, tempera, colored pencil, appliqué / overlay, and air bru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8600" y="10666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an element of realism with the use of shades, shadows, and textures that would not otherwise b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3886200"/>
            <a:ext cx="327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yp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and interior perspective, elevations, plot plan, floor plan, and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5029200"/>
            <a:ext cx="77724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necessary written information to describe the materials, methods, and fixtures used in the desig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4"/>
          <p:cNvSpPr/>
          <p:nvPr/>
        </p:nvSpPr>
        <p:spPr>
          <a:xfrm>
            <a:off x="76320" y="5791320"/>
            <a:ext cx="8915400" cy="91440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0" h="576">
                <a:moveTo>
                  <a:pt x="0" y="576"/>
                </a:moveTo>
                <a:lnTo>
                  <a:pt x="6720" y="576"/>
                </a:lnTo>
                <a:lnTo>
                  <a:pt x="6576" y="256"/>
                </a:lnTo>
                <a:lnTo>
                  <a:pt x="6432" y="320"/>
                </a:lnTo>
                <a:lnTo>
                  <a:pt x="6288" y="128"/>
                </a:lnTo>
                <a:lnTo>
                  <a:pt x="6096" y="320"/>
                </a:lnTo>
                <a:lnTo>
                  <a:pt x="5904" y="192"/>
                </a:lnTo>
                <a:lnTo>
                  <a:pt x="5664" y="384"/>
                </a:lnTo>
                <a:lnTo>
                  <a:pt x="5376" y="256"/>
                </a:lnTo>
                <a:lnTo>
                  <a:pt x="5184" y="320"/>
                </a:lnTo>
                <a:lnTo>
                  <a:pt x="4848" y="128"/>
                </a:lnTo>
                <a:lnTo>
                  <a:pt x="4614" y="296"/>
                </a:lnTo>
                <a:lnTo>
                  <a:pt x="4368" y="128"/>
                </a:lnTo>
                <a:lnTo>
                  <a:pt x="4272" y="256"/>
                </a:lnTo>
                <a:lnTo>
                  <a:pt x="3552" y="64"/>
                </a:lnTo>
                <a:lnTo>
                  <a:pt x="3456" y="256"/>
                </a:lnTo>
                <a:lnTo>
                  <a:pt x="3264" y="64"/>
                </a:lnTo>
                <a:lnTo>
                  <a:pt x="3024" y="320"/>
                </a:lnTo>
                <a:lnTo>
                  <a:pt x="2592" y="0"/>
                </a:lnTo>
                <a:lnTo>
                  <a:pt x="2304" y="256"/>
                </a:lnTo>
                <a:lnTo>
                  <a:pt x="1968" y="0"/>
                </a:lnTo>
                <a:lnTo>
                  <a:pt x="1680" y="128"/>
                </a:lnTo>
                <a:lnTo>
                  <a:pt x="1440" y="64"/>
                </a:lnTo>
                <a:lnTo>
                  <a:pt x="1248" y="256"/>
                </a:lnTo>
                <a:lnTo>
                  <a:pt x="1056" y="64"/>
                </a:lnTo>
                <a:lnTo>
                  <a:pt x="816" y="320"/>
                </a:lnTo>
                <a:lnTo>
                  <a:pt x="672" y="64"/>
                </a:lnTo>
                <a:lnTo>
                  <a:pt x="576" y="192"/>
                </a:lnTo>
                <a:lnTo>
                  <a:pt x="432" y="64"/>
                </a:lnTo>
                <a:lnTo>
                  <a:pt x="240" y="384"/>
                </a:lnTo>
                <a:lnTo>
                  <a:pt x="144" y="64"/>
                </a:lnTo>
                <a:lnTo>
                  <a:pt x="0" y="320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3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1143000"/>
            <a:ext cx="533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resent the final design in a physical form that is as realistic as possible, computer-generated or fabri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04920" y="3505320"/>
            <a:ext cx="4724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vantag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around and viewed from any angle; show interior and exterior details; the addition of scaled objects (people, furniture, vehicles) gives visual clues as to the actu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G:\My Pictures\Picture cea ied 6_02\Picture cea ied 6_02 039.jpg"/>
          <p:cNvPicPr/>
          <p:nvPr/>
        </p:nvPicPr>
        <p:blipFill>
          <a:blip r:embed="rId1"/>
          <a:stretch/>
        </p:blipFill>
        <p:spPr>
          <a:xfrm>
            <a:off x="5715000" y="1349280"/>
            <a:ext cx="3119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29:05Z</dcterms:created>
  <dc:creator>CEA Revision Team</dc:creator>
  <dc:description/>
  <dc:language>en-US</dc:language>
  <cp:lastModifiedBy>apkelleh</cp:lastModifiedBy>
  <dcterms:modified xsi:type="dcterms:W3CDTF">2011-05-04T17:19:23Z</dcterms:modified>
  <cp:revision>20</cp:revision>
  <dc:subject>CEA - Lesson 4.2 - Commercial Building Design Presentation</dc:subject>
  <dc:title>Commercial Building Project Portfolio</dc:title>
</cp:coreProperties>
</file>